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86387"/>
        <c:axId val="76497669"/>
      </c:barChart>
      <c:catAx>
        <c:axId val="86786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97669"/>
        <c:crosses val="autoZero"/>
        <c:auto val="1"/>
        <c:lblAlgn val="ctr"/>
        <c:lblOffset val="100"/>
        <c:noMultiLvlLbl val="0"/>
      </c:catAx>
      <c:valAx>
        <c:axId val="76497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86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828-5BB2-44EA-85A4-B273C0EF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93B-604C-4762-8D61-395284F4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B17-C616-41A9-9827-544C1BD5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BF9-9B38-432B-90E8-239C9266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3CF-8D9B-4A50-A442-E23703EC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3C9-D3B3-46C2-B5A5-BE81CB65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83E-AD61-42EB-A537-1559ACD2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DB1-36E2-4588-B0B7-CEA42D7D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D7E-F034-4D76-A8CC-A6875ABC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5ED-63D5-4651-B5DA-B272B76A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891-5333-49C7-8DA1-506CA9F5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C28-BE74-4B24-8723-980526D9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7AADF-8DC1-4B85-B74E-0B28E954F4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