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06178"/>
        <c:axId val="73366990"/>
      </c:barChart>
      <c:catAx>
        <c:axId val="79906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6990"/>
        <c:crosses val="autoZero"/>
        <c:auto val="1"/>
        <c:lblAlgn val="ctr"/>
        <c:lblOffset val="100"/>
        <c:noMultiLvlLbl val="0"/>
      </c:catAx>
      <c:valAx>
        <c:axId val="73366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06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5EF-0D24-4AFB-8A88-3C76520D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1FC-7F08-4FDE-B1FD-F9D4BB47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EDC-9AE2-447C-9709-0B519528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818-9883-45D9-8A1B-3151BC6E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299-DBAF-46E8-B046-77AE7D17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837-92A4-4ABC-BA55-44F09835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4AC-9342-4B61-A285-1DDE17B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3ED-46E9-445D-A9A9-D1504D0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AD4-EB32-4F37-B12E-D75B843B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495-5E39-4B3C-8E7C-B24E89C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7E2-050C-447E-A9C9-BCE0150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B9A-7551-4EB9-9D8B-7B80805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B6E22-4384-456E-86B1-B17F51B0C2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