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30289"/>
        <c:axId val="73733828"/>
      </c:barChart>
      <c:catAx>
        <c:axId val="67330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33828"/>
        <c:crosses val="autoZero"/>
        <c:auto val="1"/>
        <c:lblAlgn val="ctr"/>
        <c:lblOffset val="100"/>
        <c:noMultiLvlLbl val="0"/>
      </c:catAx>
      <c:valAx>
        <c:axId val="73733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30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7EF-EFA7-4EFA-86B7-46B39318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7AB-CD14-4420-BC32-D19D6EDF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5EC-8B31-46EC-8609-25972B2A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701-283F-4B79-8679-D41A32D7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BAB-540B-4850-BEDD-71126771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5F3-EDF2-46DD-BFF2-04A6FB3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CE5-C3D4-46E1-B2AA-035491B3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372-0C17-44DF-A572-EB32918C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EBF-E000-4CA9-A924-82117578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589-57E5-4FC8-810F-0B96D01F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FC7-3551-4E9A-AA47-CE2D3F9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B88-439B-403D-AC6C-5A845E0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95EEF-4AF1-4728-BA7B-AFACC40F79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