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1315341"/>
        <c:axId val="34248532"/>
      </c:barChart>
      <c:catAx>
        <c:axId val="6131534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248532"/>
        <c:crosses val="autoZero"/>
        <c:auto val="1"/>
        <c:lblAlgn val="ctr"/>
        <c:lblOffset val="100"/>
        <c:noMultiLvlLbl val="0"/>
      </c:catAx>
      <c:valAx>
        <c:axId val="3424853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31534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CAA57-9663-45F8-BFA5-5356995E6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C583B-272B-4FE1-AC1E-32123DD30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AA520-BA89-4598-B798-1653088B2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1F1AF-0EA8-412C-BBF7-BFA4A3260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D9AE5-9155-43FA-ADE1-F2D0A105E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6AF32-3E56-4608-A149-6D92F27DD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31A1B-2AB1-41DB-9A89-679599F2D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13F4D-4D66-49F2-9A89-4564A1C6B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A3914-F182-47DB-8406-9C985724C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57C1D-573D-4602-B992-4E8B31507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E881F-4B3A-48F0-947E-2CDE85D1F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6684C-9F79-447D-A011-9C92A0A4D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0A611B-439E-45D3-B149-EF028DAFD4F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