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23504"/>
        <c:axId val="77032014"/>
      </c:barChart>
      <c:catAx>
        <c:axId val="75823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32014"/>
        <c:crosses val="autoZero"/>
        <c:auto val="1"/>
        <c:lblAlgn val="ctr"/>
        <c:lblOffset val="100"/>
        <c:noMultiLvlLbl val="0"/>
      </c:catAx>
      <c:valAx>
        <c:axId val="770320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23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832-6544-42B8-A576-18157E8D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284C-55B2-4821-A40E-16FF3127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147-4474-4CB5-A789-2D8BCF9E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DC0-66E4-4C39-884B-8A46A7D2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A42-CE6C-48F7-A54D-9AC73717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7BB-5F20-4CB4-9B12-6CE10A10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EFAA-A0E3-44EB-A2F9-AA0E68F7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BACC-1697-4F2E-B18D-BA86A1CD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EB4-F3BF-450A-9C75-45BE9087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7F8-4060-4CA9-8DF1-ED9B91B2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AF3-1C1A-4C93-B0B7-476C05DC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209-2DBB-4D55-A11D-26455F13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337971-8DAD-45C6-8C69-DF8740C41F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