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5187"/>
        <c:axId val="13966335"/>
      </c:barChart>
      <c:catAx>
        <c:axId val="7705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66335"/>
        <c:crosses val="autoZero"/>
        <c:auto val="1"/>
        <c:lblAlgn val="ctr"/>
        <c:lblOffset val="100"/>
        <c:noMultiLvlLbl val="0"/>
      </c:catAx>
      <c:valAx>
        <c:axId val="13966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5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688-23FF-4E28-94E7-C29A8045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B35-C58E-4E26-860D-AEAF7A06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DB4-515F-4D8B-88FD-ABB2F0D2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FE7-0711-476C-966B-E9C65FC0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281-3C66-4278-BA56-07415BC9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373-6BAE-4E86-A3A6-F3DA3A27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B24-3BD3-4BAA-81A8-29974B5A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6E2-D3A0-4B1A-9553-9F90CDC6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640-AB3A-44BF-AE11-64E529FF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5C2-F505-4D0F-ABE4-75B7C291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85B-9F1B-475E-82E3-1D7FAE34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85A-50B4-4F17-9390-5775DDF3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1509C-39B7-4C41-BB17-A3A9BF46FE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