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69303"/>
        <c:axId val="39571297"/>
      </c:barChart>
      <c:catAx>
        <c:axId val="28069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71297"/>
        <c:crosses val="autoZero"/>
        <c:auto val="1"/>
        <c:lblAlgn val="ctr"/>
        <c:lblOffset val="100"/>
        <c:noMultiLvlLbl val="0"/>
      </c:catAx>
      <c:valAx>
        <c:axId val="39571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69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897-40A1-4801-9535-0E1EA4DC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B6B-263E-4CC1-AAE4-56DA3E64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AB3-CA39-4778-9441-25DC47F8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0D4-9B76-4DCB-AB17-5167ED7F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0A5-07F8-4F71-88EE-94954EAB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57C-12FE-4550-A3BF-BACFA8E2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239-0998-42B4-B9B9-D1F1F21B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CDF-AF18-4DCA-98EF-A1A4893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689-4529-448F-808A-8121BFF0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E16-C3C4-42F2-93B0-2303442B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6A8-25AE-4490-B34C-251E97C9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D08-E7FF-4469-B8D0-F9F0236F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6DCF4-E069-4D03-BE3C-22C9EC7B0B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