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7410"/>
        <c:axId val="4805876"/>
      </c:barChart>
      <c:catAx>
        <c:axId val="8537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876"/>
        <c:crosses val="autoZero"/>
        <c:auto val="1"/>
        <c:lblAlgn val="ctr"/>
        <c:lblOffset val="100"/>
        <c:noMultiLvlLbl val="0"/>
      </c:catAx>
      <c:valAx>
        <c:axId val="4805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7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C09-8C33-457B-A837-4C6681AE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C63-BC29-4328-B0FE-70876A5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89F-1906-49F4-98CA-3B7B27D9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78D-299D-4262-A100-02D1B7B0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BBB-1620-46E9-9EEE-BBA86C38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011-B039-4DCA-A3AF-0FFE803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339-9F08-457F-9B69-65E0DE1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05F-0DD1-4F4B-916E-31FBF0F4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BFD-DC6A-4EE9-8B26-486D77B2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0D8-F20B-4794-97A8-88AAA0D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FC6-3154-43DA-9575-EE614DE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EFB-9AC1-4268-A72B-537C539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26EF3-BBD5-46C1-8F4A-A468B5634E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