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88155"/>
        <c:axId val="19804181"/>
      </c:barChart>
      <c:catAx>
        <c:axId val="58688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04181"/>
        <c:crosses val="autoZero"/>
        <c:auto val="1"/>
        <c:lblAlgn val="ctr"/>
        <c:lblOffset val="100"/>
        <c:noMultiLvlLbl val="0"/>
      </c:catAx>
      <c:valAx>
        <c:axId val="19804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88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2F7-D40A-4E89-8383-68CE505E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246-6D5B-4B1B-BFC1-7DAC3598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171-6676-453F-8B61-65F9A57D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690-6F3F-4092-84DE-98576831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0E4-ECB1-4F1F-A9BC-6A01A2C1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C83-CAE8-4394-A577-6DCDEFB4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12A-6FC9-41C7-85D3-86B1D977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BB9-DB19-4FAF-9FB0-5C36A825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AD0-8FAD-42D3-BA25-0EF9538D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85C-6922-41A9-8812-8346F75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EBA-85F0-4276-8D00-B665A7D6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7F1-A1D4-4315-BF19-EB8BA5F0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D9DD5-E8CA-4111-A07C-61BF1BF28A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