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835866"/>
        <c:axId val="49159931"/>
      </c:barChart>
      <c:catAx>
        <c:axId val="548358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59931"/>
        <c:crosses val="autoZero"/>
        <c:auto val="1"/>
        <c:lblAlgn val="ctr"/>
        <c:lblOffset val="100"/>
        <c:noMultiLvlLbl val="0"/>
      </c:catAx>
      <c:valAx>
        <c:axId val="491599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8358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72A9-FFE3-4D2D-9D45-3B10D8A87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941A-AD21-4D39-8B12-D3F154CD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3CE8-CBEB-4200-80EF-1286E927B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0502-9FF7-4E05-B84B-FDC316D49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5757-8BB1-4308-97D2-B0C8F9AD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9A29-4EDE-4BB3-88E0-B1F02A6B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EAC8-3213-4440-B533-C8A74768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62F7-3C5B-4142-AE38-818F0981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93F2-46B7-42CE-BC3E-80ED5405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4A38-95C2-44F9-BD82-19A5BAC1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D289-58A6-440A-B86B-DAE4698B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8FDD-2948-4D51-B011-7B30B332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9EF67-C421-4EDA-A98E-557702EE96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