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25301"/>
        <c:axId val="88875759"/>
      </c:barChart>
      <c:catAx>
        <c:axId val="74625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5759"/>
        <c:crosses val="autoZero"/>
        <c:auto val="1"/>
        <c:lblAlgn val="ctr"/>
        <c:lblOffset val="100"/>
        <c:noMultiLvlLbl val="0"/>
      </c:catAx>
      <c:valAx>
        <c:axId val="88875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5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8FA-2D9C-4DFE-9ADE-E3864361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BB7-11FE-410C-886F-701FD192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3A7-1F59-456F-B155-A8D82C82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A7B-5972-404D-9740-01D37560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D89-BE4C-42C6-9B22-17B8A110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C77-B266-4A6F-9C91-91C674E6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206-E46D-42A4-AD26-457965C0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B49-D073-404B-8773-A4D73D46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F49-0E6F-44F9-BCA7-37A7BF3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83D-5327-4113-A193-C300D68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CD2-56F3-40E6-A482-84235B4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E27-7823-4909-B8CD-DB465ABD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DD0F5-9A4D-4DBE-8F4A-8154887EE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