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94476"/>
        <c:axId val="47283407"/>
      </c:barChart>
      <c:catAx>
        <c:axId val="73194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83407"/>
        <c:crosses val="autoZero"/>
        <c:auto val="1"/>
        <c:lblAlgn val="ctr"/>
        <c:lblOffset val="100"/>
        <c:noMultiLvlLbl val="0"/>
      </c:catAx>
      <c:valAx>
        <c:axId val="47283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94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223-29A3-4321-98B0-0EF00EDF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628-6E2E-4A6C-AD4E-59DD0AEC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519-51D1-48E5-ACE4-0BA0BAE3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B33-3240-4301-BDE7-B07EFF53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E27-A59A-4F50-81B5-DF084460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145-2D33-47E0-9182-2045233E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6C3-54EF-4D4D-A275-4CB893AB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C75-DBA4-4433-A0B9-0ADEC16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F47-AB1A-45ED-AE36-E66AE53B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2FF-D1D6-47B1-A802-9924D2A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A64-2BB1-4332-A941-9F924AA4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D15-2CD8-4B4E-A2D7-F681317F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DC711-B250-4F02-A975-2409EE6EA1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