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64560"/>
        <c:axId val="96687644"/>
      </c:barChart>
      <c:catAx>
        <c:axId val="17664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7644"/>
        <c:crosses val="autoZero"/>
        <c:auto val="1"/>
        <c:lblAlgn val="ctr"/>
        <c:lblOffset val="100"/>
        <c:noMultiLvlLbl val="0"/>
      </c:catAx>
      <c:valAx>
        <c:axId val="96687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64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49A-EF1F-4C2A-BCD9-B6AA0632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A08-167E-4FF8-BE73-E3EDED26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D9E-92C1-444C-995A-2B7BFB4F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830-98B4-42D4-88BB-117992A6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72E-6AC8-4CA0-982E-0FC22A0E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E89-1A53-4F6F-8941-8B2C918C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0CD-43DF-4C8A-BC10-417ACF42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3C1-43F1-4066-944E-3172C3B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D67-92BB-469D-BD77-62D04A5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5FC-272E-4E1E-B3E6-1EE81F8D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7A8-BFC4-45C3-A27C-C860EA9F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64D-25D5-41D8-B3E3-6F9CC200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F7A6C-7667-4D92-98C3-AC4EBFE983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