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67833"/>
        <c:axId val="44248890"/>
      </c:barChart>
      <c:catAx>
        <c:axId val="614678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48890"/>
        <c:crosses val="autoZero"/>
        <c:auto val="1"/>
        <c:lblAlgn val="ctr"/>
        <c:lblOffset val="100"/>
        <c:noMultiLvlLbl val="0"/>
      </c:catAx>
      <c:valAx>
        <c:axId val="44248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678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F742-F801-4446-879A-16FE0E66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292-0254-4500-ABE2-5DF09E25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E974-F005-42B5-ACE9-1498C4F5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4123-56AF-46B9-BB97-D9E72568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E25-FF6C-45D4-8CB7-78578A1E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D6B-A604-443D-AE94-B6169765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B46-310F-48CD-9733-72018213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433-2440-4253-94A3-CE06CD8D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30BF-E1F9-4764-89A7-705AEE27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361-CB5C-49F7-8708-901EEAFE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816-4261-46AC-B4EE-B6E25010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A14-80C2-4676-86E5-EC54D9A1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FAC76-64CC-4790-83EE-746EC875AE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