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63080"/>
        <c:axId val="81973214"/>
      </c:barChart>
      <c:catAx>
        <c:axId val="70363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73214"/>
        <c:crosses val="autoZero"/>
        <c:auto val="1"/>
        <c:lblAlgn val="ctr"/>
        <c:lblOffset val="100"/>
        <c:noMultiLvlLbl val="0"/>
      </c:catAx>
      <c:valAx>
        <c:axId val="81973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63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E83-D387-4396-963B-6ED8C6E2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550-F495-4CBC-A37D-61190AE8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A7B-EAFD-4CF4-AE36-10FB4A2A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2B2-DB30-4A63-9BDA-AC25FD00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5D7-E222-4C95-BE7D-F6DB89AE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8EE-A630-4A00-9AD5-678F92C1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489-BA17-487D-9545-26053367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925-F24A-4566-A574-DFA418F0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AB3-5805-49DE-A185-369F015C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3A5-2640-4188-B727-B20A4BD4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0DE-621B-498B-86A5-F94D2DC0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53B-03EB-49AE-85BA-84AA8D97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41068-CA09-4DD2-B3DD-B0E572585F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