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94080"/>
        <c:axId val="11440836"/>
      </c:barChart>
      <c:catAx>
        <c:axId val="43594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0836"/>
        <c:crosses val="autoZero"/>
        <c:auto val="1"/>
        <c:lblAlgn val="ctr"/>
        <c:lblOffset val="100"/>
        <c:noMultiLvlLbl val="0"/>
      </c:catAx>
      <c:valAx>
        <c:axId val="11440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94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132-253E-4894-8A89-62F8D60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EFA-FA95-483D-8FD0-4447E7C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91D-76B8-42D5-AB08-551B5F45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9D2-B6E9-4992-8428-B3447B8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F54-E717-4DA3-8E65-E80E2B6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869-72FE-40FE-BB80-824417A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56A-7C38-4108-9EE4-80A25E78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B18-5F0C-40D6-95E7-DA1A6AC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8E8-3789-4283-958A-D4279ADE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124-7040-49B5-B70D-5D62FFD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129-1359-41E0-9899-B9622CE4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217-E8D3-44C4-918C-6C9BF96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20C10-5CBC-44EC-AE17-09553E997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