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72568"/>
        <c:axId val="8218769"/>
      </c:barChart>
      <c:catAx>
        <c:axId val="940725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8769"/>
        <c:crosses val="autoZero"/>
        <c:auto val="1"/>
        <c:lblAlgn val="ctr"/>
        <c:lblOffset val="100"/>
        <c:noMultiLvlLbl val="0"/>
      </c:catAx>
      <c:valAx>
        <c:axId val="8218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725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D680-91B2-4884-B997-93244C6B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FC45-EC86-479F-921A-9464881A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CB2B-BA07-41A5-8264-FE6AB164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C2C-3733-4CA1-8E7B-9651361F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2FA-1A49-4637-8AE5-DC6156CF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778-EE74-49AC-8ADF-194B970B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FC5-1608-4AF7-91FD-8FBEBAF7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67EB-129F-445A-9DDB-2487BEF3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3D77-1FE9-4510-859F-CA6CD4D7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7D76-BEA9-4C7B-B281-0255D6B4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DDD-79C5-49C7-A66F-3EEEAD59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A8C-D125-4EAA-A686-EE85D05E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3A672-A801-4D01-AFC1-89D0940396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