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695586"/>
        <c:axId val="271850"/>
      </c:barChart>
      <c:catAx>
        <c:axId val="2169558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850"/>
        <c:crosses val="autoZero"/>
        <c:auto val="1"/>
        <c:lblAlgn val="ctr"/>
        <c:lblOffset val="100"/>
        <c:noMultiLvlLbl val="0"/>
      </c:catAx>
      <c:valAx>
        <c:axId val="27185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69558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85F0-5811-4D02-AF60-48D27B59C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4C7C-0F7A-41C9-B4C0-526A09B7E3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4D70-89A8-4B9D-880B-E8462B42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2CC-6638-44DD-90BE-5719A1BED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8958-89C2-4E98-AC08-5AEB52A9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2A9D9-2C8F-4914-952C-B7A41EF92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EC11-15F6-455B-8B03-1627C6A9B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EA4E-8684-4566-B8AB-E7E76B33C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774A-50C9-48E2-AC31-A59704B49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D114F-E2EB-4C70-81AE-4015F8672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614E9-CB56-4B53-8A5A-AE2535A42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9F20B-0554-488F-8D1E-69614E93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7BD9D-8AF9-4795-A424-67268A2D1C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