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44647"/>
        <c:axId val="42891846"/>
      </c:barChart>
      <c:catAx>
        <c:axId val="27344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91846"/>
        <c:crosses val="autoZero"/>
        <c:auto val="1"/>
        <c:lblAlgn val="ctr"/>
        <c:lblOffset val="100"/>
        <c:noMultiLvlLbl val="0"/>
      </c:catAx>
      <c:valAx>
        <c:axId val="42891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44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9CE-9AB5-43D3-8657-1D1C5715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965-CBEB-4C4C-9709-360558BD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4CA-A3F6-4383-8F71-233D57E1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163-B5BF-4743-BA62-2299D969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2E8-2703-4D50-A1DE-19DA3BF0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95F-ECFB-4C14-B75E-0DFB858C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E9C-D0C5-4183-8709-9E2AF2BE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D91-AD03-4FC8-AA82-00428EDF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D17-FC5D-406F-A4A2-FE84F218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92C-F78B-4FCF-9381-9711FA8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5A5-3264-494D-9994-26FDFB61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AA2-C3EF-471E-A452-699FAAD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3C6BC-489B-467B-A81E-DC65094BC5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