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59091"/>
        <c:axId val="59879856"/>
      </c:barChart>
      <c:catAx>
        <c:axId val="42359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9856"/>
        <c:crosses val="autoZero"/>
        <c:auto val="1"/>
        <c:lblAlgn val="ctr"/>
        <c:lblOffset val="100"/>
        <c:noMultiLvlLbl val="0"/>
      </c:catAx>
      <c:valAx>
        <c:axId val="59879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9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95D-FD8A-49B1-AF72-858C26C2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E94-D9D1-4EE5-8AFF-81E6DA9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A3A-FEB3-45C3-BAE2-DBA69FD0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4CB-3342-4F5C-BAC6-902B0695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BBD-8B50-49C8-8741-9E5B95C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0C9-178D-4D5F-8AE1-50800192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271-3E0E-48C1-BB76-F5AA0F90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3C4-A923-4882-8697-8122023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DBF-B242-449F-8A2B-33D77FA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E4B-1A53-4591-AC28-CC1FBFE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CD6-ADC5-478F-8DCD-A51DC58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74F-D01A-4E35-8B92-3F9C59E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A25C0-F120-48C9-9238-6387428CA8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