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1701023"/>
        <c:axId val="50230746"/>
      </c:barChart>
      <c:catAx>
        <c:axId val="6170102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0230746"/>
        <c:crosses val="autoZero"/>
        <c:auto val="1"/>
        <c:lblAlgn val="ctr"/>
        <c:lblOffset val="100"/>
        <c:noMultiLvlLbl val="0"/>
      </c:catAx>
      <c:valAx>
        <c:axId val="5023074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70102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6056B-4877-41C1-933A-FD7EDB8EB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B28E5-6DAC-41D2-8EE0-B03D27F9B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9F981-14A6-4591-9EA3-A474B9130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F90F7-0920-4C9A-8EF8-282EBD328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82A3C-9F99-4A10-BEA5-E68491EA4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5F0AC-C615-4EBC-A91E-E8004DA6F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35869-1B14-4FF1-A3FB-3E66201F8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5FE94-D9A7-4A70-AEC8-36377CB03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BD36F-E4B0-4D32-AE5A-D6524BEC5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F123A-07A0-4128-A5C6-C23781F5E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2DC9B-09CF-4831-810C-9D9A82AEE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5B8D1-12CF-4B1D-B58F-654D31794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6F0D22-7E28-4548-98B0-B3D739C0004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