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876914"/>
        <c:axId val="34780385"/>
      </c:barChart>
      <c:catAx>
        <c:axId val="528769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80385"/>
        <c:crosses val="autoZero"/>
        <c:auto val="1"/>
        <c:lblAlgn val="ctr"/>
        <c:lblOffset val="100"/>
        <c:noMultiLvlLbl val="0"/>
      </c:catAx>
      <c:valAx>
        <c:axId val="347803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8769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886F-F209-4B68-812C-05D52E552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B59DD-0E74-43F5-968D-E00AF3416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F38F4-10C7-49B1-93A2-740BB253FC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A53A-B7A8-4D8D-8E8B-46FE1D3EB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123AE-DCD5-4B72-8E61-31F232904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83FD2-AFA8-4014-8501-51BAA8A16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065BC-67F8-480A-A3E6-B1CA2B914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9EE1-27A8-4A6D-8414-388046FFC4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00415-9D9B-4B89-BE48-4BE7C637A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FEC0-5CFA-49B3-AEA8-15E5BD6B9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6C34-F73F-4EA6-8DC3-13E6A81A0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981A-BB87-4BA0-B5BE-02DBAB8FF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161805E-4264-4AA7-A248-1A1580223B0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