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69057"/>
        <c:axId val="90354668"/>
      </c:barChart>
      <c:catAx>
        <c:axId val="28969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54668"/>
        <c:crosses val="autoZero"/>
        <c:auto val="1"/>
        <c:lblAlgn val="ctr"/>
        <c:lblOffset val="100"/>
        <c:noMultiLvlLbl val="0"/>
      </c:catAx>
      <c:valAx>
        <c:axId val="90354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69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678-D322-4B51-9298-85C32C1F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B87-C98C-4DDE-8846-9865FFDD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E01-DC9F-4FEF-BF24-19BDF942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1EF-1186-4315-98FD-48C011BA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730-4226-4765-A671-229FDFBB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E43-0B06-402C-8A77-356941DC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F4F-11D4-4238-9F19-F7E2D7A2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F37-5259-489A-B9F9-44B34642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79F-B650-4B45-B26C-1419473D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B94-8445-46BA-BF28-64C835E8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175-11AB-42C5-84ED-20121FF5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599-7020-4259-B675-A6B450CF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BFCE4-6CBC-407C-8BE1-0BE466616E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