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688220"/>
        <c:axId val="63252967"/>
      </c:barChart>
      <c:catAx>
        <c:axId val="156882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52967"/>
        <c:crosses val="autoZero"/>
        <c:auto val="1"/>
        <c:lblAlgn val="ctr"/>
        <c:lblOffset val="100"/>
        <c:noMultiLvlLbl val="0"/>
      </c:catAx>
      <c:valAx>
        <c:axId val="632529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882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6406-3F7E-4541-A5F6-89280DC1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E5D6-6D51-41AE-98D6-F31F8068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80DD-54EA-44FD-B6C8-C8510327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7229-FBEA-4017-A13C-E8113F85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3BCA-9443-40CE-B2F1-A71FB4E1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FAA3-4556-4BBB-88B2-B57567C7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C1FC-61CF-4AC1-9BC2-6959D662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EE93-7B7A-4C7A-9BDC-93C9A843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AA16-96A4-4FF0-80F9-66F92949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07ED-DC88-4C6B-85E2-9AF0D108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7EBB-DEC7-478A-BE4A-1154D231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75FB-5B41-4BE2-8A93-FDCCA163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E59E1-0EF8-4EDC-97C8-5C1081FE23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