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444012"/>
        <c:axId val="70683055"/>
      </c:barChart>
      <c:catAx>
        <c:axId val="184440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83055"/>
        <c:crosses val="autoZero"/>
        <c:auto val="1"/>
        <c:lblAlgn val="ctr"/>
        <c:lblOffset val="100"/>
        <c:noMultiLvlLbl val="0"/>
      </c:catAx>
      <c:valAx>
        <c:axId val="706830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440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16E8-BA75-48F9-8B7C-727930FDC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9831-E0FF-4070-B412-F604AED6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9683-EE8F-413D-A42F-452B2CDE8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72D2-DC5D-4539-A992-6E8E5FDA7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771D-D794-4921-92A3-D8D826DC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DE50-8DD6-4F30-849D-FE5C6885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7F72-C190-4492-BD02-79210A7A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2A29-E22A-49BF-B184-0DCA8557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098A-26FB-4CEE-95BB-D5F08DB4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3EDB-BA32-4073-93B9-9A55BE88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F0D6-8901-4E95-B3BE-2FA7BD9C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5052-775C-44DE-8AD1-2FBA2592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ACE3A-86FC-4C92-8809-022A6268F7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