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40911"/>
        <c:axId val="76175145"/>
      </c:barChart>
      <c:catAx>
        <c:axId val="384091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6175145"/>
        <c:crosses val="autoZero"/>
        <c:auto val="1"/>
        <c:lblAlgn val="ctr"/>
        <c:lblOffset val="100"/>
        <c:noMultiLvlLbl val="0"/>
      </c:catAx>
      <c:valAx>
        <c:axId val="761751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4091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C664-4389-4CCF-A5FA-EB6D2CF3BC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CF76A-A0FA-4528-960C-13ABF3C23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2B0-6AD0-4E3D-A2BA-42789B2D2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1F2B-BD95-4CBC-BD48-F2E04D14E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2B7AB-F8AE-4664-A7DD-512ACB2868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855EA-9377-498C-BF5E-11CBE7F7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3C246-67CE-4A33-B0E5-31AE65194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2443-CA46-475F-A4B4-1DF0E9B13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C847-12C9-42D7-AD21-4F2B3435D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8F838-584F-4569-AABE-B51D955E8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6ACF-C89C-416E-861B-C061B92D5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07FE1-19DA-439D-A377-43EBDFBFE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68519F-890A-4FC1-86A4-DA7DDE73BF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