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29826"/>
        <c:axId val="36608919"/>
      </c:barChart>
      <c:catAx>
        <c:axId val="18429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08919"/>
        <c:crosses val="autoZero"/>
        <c:auto val="1"/>
        <c:lblAlgn val="ctr"/>
        <c:lblOffset val="100"/>
        <c:noMultiLvlLbl val="0"/>
      </c:catAx>
      <c:valAx>
        <c:axId val="36608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9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167-5E8F-4658-A119-1C4AA62D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C0F-0486-4713-8D21-C18D50FE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D8C-C8BA-445A-AC07-024DF311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4D3-F064-471E-99BC-788F453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FA7-310E-47C7-A35B-FC913EB9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BD4-0537-4114-BCAD-F5FECC7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15E-D019-4B8A-8BBC-0DF857B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68A-24A1-4F88-AE7D-FF2FD7B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F92-B0EB-4252-B4D8-9948E56E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334-A177-4297-89B1-0717CDF5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015-3167-4CD5-8C72-AA02C37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DB5-E0BD-45F5-AB1B-0CBB8C0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6B2F-03E6-48AA-AF32-66A2E2790D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