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78426"/>
        <c:axId val="54585449"/>
      </c:barChart>
      <c:catAx>
        <c:axId val="58678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85449"/>
        <c:crosses val="autoZero"/>
        <c:auto val="1"/>
        <c:lblAlgn val="ctr"/>
        <c:lblOffset val="100"/>
        <c:noMultiLvlLbl val="0"/>
      </c:catAx>
      <c:valAx>
        <c:axId val="54585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78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073-E64F-4DFF-9234-B6F6DD55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23E-7694-41E0-A882-EAD34278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9A6-E698-406A-BC74-1841926D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E93-E20D-4675-B4A5-60958443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3F2-F545-4864-BD91-DD1F4BE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842-5E79-4D7F-B5CD-062A762D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28A-A39B-48F0-BFBA-D1BD4400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20F-4427-470D-AD4D-F04F8B1B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FFA-97C2-41FC-BD4D-4BA1179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16F-2E98-442D-A0CF-E964F7F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6B7-EA4D-4CF5-AA16-8E2BEAC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764-16D1-4096-89F8-E5555E0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89A4A-14A5-4408-A34D-7949644ED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