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223269"/>
        <c:axId val="43136787"/>
      </c:barChart>
      <c:catAx>
        <c:axId val="172232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136787"/>
        <c:crosses val="autoZero"/>
        <c:auto val="1"/>
        <c:lblAlgn val="ctr"/>
        <c:lblOffset val="100"/>
        <c:noMultiLvlLbl val="0"/>
      </c:catAx>
      <c:valAx>
        <c:axId val="43136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232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9D73-64C7-4837-B47F-763545BE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060D-6536-4CDC-8E72-FD882ABA7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96FD-A5FB-47B3-9B6D-507B416E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CC61-0731-4775-93CD-C04D88585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5BC6-09ED-4D79-A3E2-9FE14BCD6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FA47-2B0F-4C23-8065-E4F1956B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203-9534-41A7-ACC8-5D547CA0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6B99-4D05-4BE7-BE61-DF0130A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99D-D7AE-4B61-A2B3-B2FF6D70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DFA-DA17-4F2F-AA42-AC2CA47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1EF6-3B40-4FEC-AB37-CC415E9E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E89B-1BA5-4E9C-8485-6F9F68E9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642A8-CD14-47CF-8411-4C606D3ABA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