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667200"/>
        <c:axId val="57905517"/>
      </c:barChart>
      <c:catAx>
        <c:axId val="466720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905517"/>
        <c:crosses val="autoZero"/>
        <c:auto val="1"/>
        <c:lblAlgn val="ctr"/>
        <c:lblOffset val="100"/>
        <c:noMultiLvlLbl val="0"/>
      </c:catAx>
      <c:valAx>
        <c:axId val="57905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66720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712CB-9779-4A08-A6FD-7EF174BDF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4C022-77F1-49D6-9BD5-9FD421DA7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91A9-9DCC-48E5-BBDD-108F114F7D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529D-1FED-467F-BA2F-CCC237361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F2BF0-B90B-44DC-909F-1CF264E3D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6AAF-74D4-4E3B-B507-2E5A67629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E072F-938F-4ECB-84C6-42290C4A3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AC2A-5063-4273-9B78-9E1A2A666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04BB-E6FB-453E-86B8-7969C67DE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FD034-B5AA-4C02-89C1-6691B84AE5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2A24-9CFF-4987-A158-CD6455454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0B846-C0B0-46AC-8560-F354B9C2F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424990-B482-450E-9FCD-91C3A5FA81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