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6413170"/>
        <c:axId val="32047745"/>
      </c:barChart>
      <c:catAx>
        <c:axId val="26413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047745"/>
        <c:crosses val="autoZero"/>
        <c:auto val="1"/>
        <c:lblAlgn val="ctr"/>
        <c:lblOffset val="100"/>
        <c:noMultiLvlLbl val="0"/>
      </c:catAx>
      <c:valAx>
        <c:axId val="320477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6413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7F7FC-D73A-4175-9FA3-71C79FCF18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DEB4-E4CA-4CA9-B614-89DB3D2EF5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8F4B1-22E4-40D0-83ED-04449B2CDE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807D-650E-4934-A60E-6FB601CE78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4F0B-085A-414E-9170-69260BAE3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10A58-F5CF-40D5-B116-8037366A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11B2-3C6D-41E8-A800-DC41377C6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79ACF-AB3F-4FE9-9A51-40BB64FA5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2B45-B4DE-4D61-847C-27B9DED84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28AD-8D1D-4EB4-8F91-49489FEF9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157C5-A67E-4A97-9C86-15B4BE6F0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452B-5416-4A1E-8F31-974845AFB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A6104D-75F4-417C-AF9B-4B95DF8778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