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54772"/>
        <c:axId val="51422711"/>
      </c:barChart>
      <c:catAx>
        <c:axId val="35554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22711"/>
        <c:crosses val="autoZero"/>
        <c:auto val="1"/>
        <c:lblAlgn val="ctr"/>
        <c:lblOffset val="100"/>
        <c:noMultiLvlLbl val="0"/>
      </c:catAx>
      <c:valAx>
        <c:axId val="51422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4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07E-56D5-43DD-8BDC-C83394B4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9E3-CC05-4D15-84C0-D8A7FDAE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0EC-404A-4E61-B07D-7C5ABEE7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26A-444C-4A33-AD43-E5DFE548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750-3DDB-480D-8F70-3B4C176F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61F-448C-4351-8B01-B5D2D0B0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148-1650-4881-A8EC-95A7C8B1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BDD-740B-4CE0-A1F6-B635DDB4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9A1-6082-4400-8BFE-C83CC212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315-10DC-4D11-9E1E-12D83CA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769-11A5-44C0-AF2A-E102314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6D1-9C0D-464F-8BF9-EBCB58A3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3C981-C1B8-484A-9384-ECC999E9DB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