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468381"/>
        <c:axId val="38348273"/>
      </c:barChart>
      <c:catAx>
        <c:axId val="374683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48273"/>
        <c:crosses val="autoZero"/>
        <c:auto val="1"/>
        <c:lblAlgn val="ctr"/>
        <c:lblOffset val="100"/>
        <c:noMultiLvlLbl val="0"/>
      </c:catAx>
      <c:valAx>
        <c:axId val="383482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683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300D-7E7D-4DE2-9B5B-F757DB87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6216-24FD-46AF-9B4B-348075CF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0166-E66E-48BA-9FC4-AA21203B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E24D-A148-4DA0-A9B5-4B7957328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CB60-3FE5-4CFE-88C6-72D70294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E181-0BD0-4BB7-899F-47FACB39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0A8E-1529-4D51-B653-41F278DE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6F37-EFB0-4650-8415-5B2774FA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70A6-049D-49AB-9181-D6947D7C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3BD0-1573-4E49-B35E-4EDD11B3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C8A3-025E-464A-848D-1F904C47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F472-A424-4EA9-94CD-B9698C92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66554-FA69-4B2A-918A-8A148F14FC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