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93844"/>
        <c:axId val="54126569"/>
      </c:barChart>
      <c:catAx>
        <c:axId val="741938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126569"/>
        <c:crosses val="autoZero"/>
        <c:auto val="1"/>
        <c:lblAlgn val="ctr"/>
        <c:lblOffset val="100"/>
        <c:noMultiLvlLbl val="0"/>
      </c:catAx>
      <c:valAx>
        <c:axId val="541265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938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D26-9CD1-4C06-B0F8-4E04A0B1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FDCC-E545-4A0D-B490-9EAEC675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342-9EFB-4CBD-91E1-08A5B8F6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230-E82F-4163-9814-1B6D49F7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5F66-3E3A-4DA9-8CB3-C90946E8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91F5-55ED-4260-B0A3-5A9376AF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7A6-5A69-4270-B14B-6E2A7501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84AE-5E69-40D9-BB4D-50A961C5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F617-10ED-4CC3-8969-5D2A1824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9252-A965-436D-A119-5723E4A4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2261-21B4-4938-A8D2-BD9C1AD9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F569-4E28-420A-B116-CD201DB9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EAA35-ABF5-4A94-AD90-38DE43E20E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