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21F8-4B98-4111-A4C7-7018DD4E3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0A71-EAFB-4262-BC68-892C3CDDF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4227-EF72-4BFC-8766-925AB46B1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40B3-C683-4872-85C7-A52027DA2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F781-76D6-4FDC-A100-5054DB617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CD7E-5F92-445C-ACDD-A97E050E0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490C-D2EC-4815-8087-D52F84FEF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BDA4-0F4A-436D-8AE7-CA70C075A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26F7-9E86-4EFD-BB6E-267A3420A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16A1-396E-4FA1-87DD-041B553FB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2A58-201C-461E-8CFE-D10C385BD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B7EE-9A22-4D18-8A09-520EACD8F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87C591-0AE9-4160-B9BF-F2D53833E04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E6D5DF-D9AB-4122-92F1-FA9F19822A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rome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ome t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21:58:53Z</dcterms:created>
  <dc:creator>Deepak Gopal</dc:creator>
  <dc:description/>
  <dc:language>en-US</dc:language>
  <cp:lastModifiedBy>Deepak Gopal</cp:lastModifiedBy>
  <dcterms:modified xsi:type="dcterms:W3CDTF">2010-11-24T21:59:21Z</dcterms:modified>
  <cp:revision>1</cp:revision>
  <dc:subject/>
  <dc:title>Chrome test</dc:title>
</cp:coreProperties>
</file>