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23592"/>
        <c:axId val="29702922"/>
      </c:barChart>
      <c:catAx>
        <c:axId val="26623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02922"/>
        <c:crosses val="autoZero"/>
        <c:auto val="1"/>
        <c:lblAlgn val="ctr"/>
        <c:lblOffset val="100"/>
        <c:noMultiLvlLbl val="0"/>
      </c:catAx>
      <c:valAx>
        <c:axId val="29702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23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169-BA30-4235-B64C-FE4A0B0B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6CB-05F0-4A2F-8F42-60E7000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4AF-48C9-4AE2-A73E-066D4138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68F-A888-4575-ADD0-9954060F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7CD-C65C-4FA5-87B9-E3A3299F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CCA-062C-4498-8256-9B31C795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B8F-4D7C-4AB4-875A-9107E5AA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302-6C00-4B7E-9285-69C7A6C6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F0C-1CB7-4531-9399-F10EEA13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4CF-11A0-40C3-854E-51B1ECB0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1DE-1CCD-4A81-A8EB-C721A51B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42B-4250-4C82-A3C1-5780CC17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B7065-D35C-4E6D-B864-E4257C9F5A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