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539182"/>
        <c:axId val="16804195"/>
      </c:barChart>
      <c:catAx>
        <c:axId val="165391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804195"/>
        <c:crosses val="autoZero"/>
        <c:auto val="1"/>
        <c:lblAlgn val="ctr"/>
        <c:lblOffset val="100"/>
        <c:noMultiLvlLbl val="0"/>
      </c:catAx>
      <c:valAx>
        <c:axId val="168041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5391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6CCC-8987-4587-828A-B2DC3929B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8D6B-18D7-49F4-A132-5C679E013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A053-BAB3-4D50-AFD1-59DD1DB6B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C134-B634-491B-BA86-5AE8226C7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295F-C7FC-4974-B461-CEF8A9E51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57B1-E632-48C2-9240-58EC74096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EEF3-1A00-45B8-9732-D8CB2CB58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2FA7-8493-48F3-82C3-B72CF9D61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5819-95F4-4E61-8A92-797110709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BBF7-E97F-4B16-88DE-6AAF5BFD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AAC9-82DD-43E5-9103-193A3302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55D4-ED5B-4B6C-A781-BBA3EE91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8E49AD-345C-4ADE-B872-4C4781F60FF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