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8442047"/>
        <c:axId val="32363915"/>
      </c:barChart>
      <c:catAx>
        <c:axId val="5844204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363915"/>
        <c:crosses val="autoZero"/>
        <c:auto val="1"/>
        <c:lblAlgn val="ctr"/>
        <c:lblOffset val="100"/>
        <c:noMultiLvlLbl val="0"/>
      </c:catAx>
      <c:valAx>
        <c:axId val="3236391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44204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FA70-102F-4721-B2B3-18475139B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8CAC-DA5A-4C01-A23C-1C5F6E8DD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1EB7-2E85-41F6-B26D-97BAEB035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C9FE-B30B-4FC4-BE33-87A059A28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5AA0-C5CA-4DF9-A62C-88DA79064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B86E-6C8D-4A9C-A2FB-D807BB2CB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B19C-C0D8-43D2-846A-D784DB779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5203-5A16-4DD9-89B7-9D7CBAB58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4DDF-52C3-4403-8153-0CFE030D4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05AB-3C2D-409C-94F3-31A920967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155D-AF60-4235-BF1C-11D4B61BB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AD34-DA17-444D-8F4A-524C39DE7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A0C97E-5449-475F-90B5-D33CD18CBB3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