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40123"/>
        <c:axId val="1594548"/>
      </c:barChart>
      <c:catAx>
        <c:axId val="19540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4548"/>
        <c:crosses val="autoZero"/>
        <c:auto val="1"/>
        <c:lblAlgn val="ctr"/>
        <c:lblOffset val="100"/>
        <c:noMultiLvlLbl val="0"/>
      </c:catAx>
      <c:valAx>
        <c:axId val="1594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40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047-C76C-4997-B993-1F4D0C34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9EF-36CA-42A9-9D0D-8691758C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651-A134-41C2-A48F-08E9715C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A48-A9FB-4A45-A049-CC427B72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A98-3906-45F7-98E6-C5308115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3C7-9B0D-4128-8D2A-3710242D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1F7-843C-44BE-8BA0-3FD61554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A0F-A260-4093-B4A9-E56B0B26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FCD-D68C-4E7B-B0BF-6F475CE2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BD1-8BC8-4305-8D7F-814B6064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CB8-3418-4891-A9DB-F272C921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5DE-A290-4C6B-AB74-2C55C5B0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3BEA9-CD3A-44EA-BC5F-A8897912E1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