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37955"/>
        <c:axId val="24419578"/>
      </c:barChart>
      <c:catAx>
        <c:axId val="51337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19578"/>
        <c:crosses val="autoZero"/>
        <c:auto val="1"/>
        <c:lblAlgn val="ctr"/>
        <c:lblOffset val="100"/>
        <c:noMultiLvlLbl val="0"/>
      </c:catAx>
      <c:valAx>
        <c:axId val="24419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37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B2E-389B-4FB1-92E5-3E3D21D7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8F7-4BE6-43F3-9993-0ABD714E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E15-36C3-402A-BEA9-AEFF03CC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946-E624-43C9-ACAB-73E6AA89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13B-F9AD-4E5E-AF98-9A94BF57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D4D-4AAD-4080-BD2D-594B3B01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66C-DD87-4BAD-8FB9-5E77C40B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19C-1766-460E-992E-52ECFD78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6C9-AE36-4116-A99B-E7DC9C2A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0F3-51D4-4F72-B818-32668402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510-953F-4BAC-A984-B8430EF5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913-9C08-4B6C-BBED-10888FD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57E9F-DC82-4328-8C3E-93DE82B780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