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245327"/>
        <c:axId val="70761587"/>
      </c:barChart>
      <c:catAx>
        <c:axId val="73245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61587"/>
        <c:crosses val="autoZero"/>
        <c:auto val="1"/>
        <c:lblAlgn val="ctr"/>
        <c:lblOffset val="100"/>
        <c:noMultiLvlLbl val="0"/>
      </c:catAx>
      <c:valAx>
        <c:axId val="70761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45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29EF-5840-458A-A2DA-C09F13F9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97B-79D6-41BC-95C2-E822AF7A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007-F685-46AC-A480-BDC30E44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FD5-E248-4E5B-8312-63857B14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DA9-2F2B-4BF8-A9A1-5ADD8A50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89D-4916-4D25-8DE6-E75E1C8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B78-ED84-470E-864F-D5BB8F18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600-BB6A-43CF-862E-A8C968BD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3BB-71B0-4551-8520-6A83C5D8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1F1-538B-452D-AB67-84351361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7108-156F-4CBC-A15E-40964202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2D9B-9EF3-4556-A1CA-80AAE89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B9FE5-2DB3-4D73-9E62-649BF42CC6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