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51001"/>
        <c:axId val="19455732"/>
      </c:barChart>
      <c:catAx>
        <c:axId val="18251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55732"/>
        <c:crosses val="autoZero"/>
        <c:auto val="1"/>
        <c:lblAlgn val="ctr"/>
        <c:lblOffset val="100"/>
        <c:noMultiLvlLbl val="0"/>
      </c:catAx>
      <c:valAx>
        <c:axId val="19455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1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38F-8FC7-4005-BA03-754B3064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F2D-9E5D-45EE-8701-B533370A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57B-1299-405F-A8E1-128A712E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39-166E-4953-AE60-9B3B4D28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82F-9012-4634-A470-BB742CA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18D-7117-41FC-9EBA-D1B72C2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DEB-332A-4F43-B848-40CB2330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E86-B9B9-4656-A08E-D436F2A3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BEA-05E8-46D7-B9AB-873C73DE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4EE-08EC-4B5A-A6D4-7DDC1E5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184-7EEC-41F4-83F6-88ACDA2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498-3FF1-4746-8AD2-88E9C88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42C57-FD4C-4F5C-971A-FB09D6235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