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98079"/>
        <c:axId val="72536118"/>
      </c:barChart>
      <c:catAx>
        <c:axId val="72698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36118"/>
        <c:crosses val="autoZero"/>
        <c:auto val="1"/>
        <c:lblAlgn val="ctr"/>
        <c:lblOffset val="100"/>
        <c:noMultiLvlLbl val="0"/>
      </c:catAx>
      <c:valAx>
        <c:axId val="72536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98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B2F-6E96-49A7-9EB9-D5C57803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56B-C691-433F-AE20-B125CD06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72B-AC64-4576-A6E3-4D82AF69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64C-2BCF-4E6C-A6F4-58E2C7D7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E4CA-EAF3-4903-9B2A-D3C644C0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344-4136-45E9-B59D-1D49569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36E-6F76-4B45-AAEB-2BBC8C7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A43-E8AD-41C5-9E95-291A1A9C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7D6B-934B-4F68-967C-D384303D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3CD-03FA-4B1A-80AA-1B58CD55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EB0-18A1-49B9-96E2-4AB58B0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9EA-2F41-40EA-9926-4AD796DB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C223C-7313-4617-894D-6ACD778AC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