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50851"/>
        <c:axId val="6701831"/>
      </c:barChart>
      <c:catAx>
        <c:axId val="21950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1831"/>
        <c:crosses val="autoZero"/>
        <c:auto val="1"/>
        <c:lblAlgn val="ctr"/>
        <c:lblOffset val="100"/>
        <c:noMultiLvlLbl val="0"/>
      </c:catAx>
      <c:valAx>
        <c:axId val="6701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50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6E2-004D-4CF5-AC35-5B2D8834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A6D-0AC0-45D1-8220-B09ECC6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5FF-F478-4E1D-93F5-ABD22361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BB6-8450-4AB7-B2D9-5DECDFF6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F1F-11FB-4BAA-9AED-C9759223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DAD-DAA2-4068-97BA-EA205FB0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2DD-F277-41E3-ABA6-33C8F93A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907-9ACD-4705-A3EB-86421889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1A1-23CC-4478-B1C0-E0EE3016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F28-9417-4057-B9D9-CF229DE3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0A2-9D40-42DF-BBA0-C986E0E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5F3-EF79-421D-ABF2-8375B49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710A7-84DF-4BFD-8FB2-48F1725F0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