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06330"/>
        <c:axId val="20649693"/>
      </c:barChart>
      <c:catAx>
        <c:axId val="73606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49693"/>
        <c:crosses val="autoZero"/>
        <c:auto val="1"/>
        <c:lblAlgn val="ctr"/>
        <c:lblOffset val="100"/>
        <c:noMultiLvlLbl val="0"/>
      </c:catAx>
      <c:valAx>
        <c:axId val="20649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06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CA0-62A1-4828-9C7D-AE05ABDC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991-FE53-4C09-911C-1E9C01D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838-944C-42DB-99CD-57858F4B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D01-D1A6-4668-B65A-5814549A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57E-3FFB-4368-832B-4A1CD63F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E95-139E-4B45-ADB6-54DAC51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7CA-3B1D-46B0-8461-1C4A1D9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FA3-90BE-4D06-B109-2D1368EF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C2D-CD18-4F85-8C25-F3D18671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96D-A9CD-4DDF-9A33-DBBA9D5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6A9-B12B-4659-9C38-FA775E5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663-6A3B-4693-BF14-57DCE587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84335-3F17-43FB-A144-75E67212C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