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128"/>
        <c:axId val="35691117"/>
      </c:barChart>
      <c:catAx>
        <c:axId val="931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91117"/>
        <c:crosses val="autoZero"/>
        <c:auto val="1"/>
        <c:lblAlgn val="ctr"/>
        <c:lblOffset val="100"/>
        <c:noMultiLvlLbl val="0"/>
      </c:catAx>
      <c:valAx>
        <c:axId val="35691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781-5CCE-432A-83EB-9B534D7C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4C1-34C8-4A7D-91D1-7D625D0B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809-0C5B-4D80-B8DB-2A95834F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43B-3554-4F08-B9EF-11318722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489-BCBD-472B-8484-038389B0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DDC-0EF4-4300-B305-7AA48072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C71-A9DD-4E79-B588-83580C5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605-08D0-4F4D-9192-9DB76E1C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46A-047C-4762-9FA2-8D98B981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CD0-1EA8-48B2-8554-1A3ECE6B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7F2-9C6F-44E8-BD9B-EC45EE36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6DC-8BB3-451E-9790-6027355F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68BF9-7EC4-4920-ACD1-5449D0A00B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