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06272"/>
        <c:axId val="89671986"/>
      </c:barChart>
      <c:catAx>
        <c:axId val="11406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71986"/>
        <c:crosses val="autoZero"/>
        <c:auto val="1"/>
        <c:lblAlgn val="ctr"/>
        <c:lblOffset val="100"/>
        <c:noMultiLvlLbl val="0"/>
      </c:catAx>
      <c:valAx>
        <c:axId val="89671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06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EDF-E9C7-465C-B65C-078A4DF3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F45-14CE-42DF-91A9-60144420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6DB-252F-47C2-8F68-81D7D87F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9D6-57D9-428D-B4E3-D91A0442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E9E-8D3C-40FD-879F-071A4BC2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7D5-914F-4D1C-B8A0-C9CA2AAF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C7C-F262-440E-B736-D642B4B8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9ED-3DE8-4CC9-A8EF-4D2854E4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EA2E-2524-4579-BAB6-37D0DCAA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BBD-F9C9-42D8-A9F9-FBF078FB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91C-159D-4524-A9B9-CA5449BE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0B6-3B29-40E2-805E-B5D18D2D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AE38B-402D-434C-A73D-21295F629C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