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54720"/>
        <c:axId val="19732947"/>
      </c:barChart>
      <c:catAx>
        <c:axId val="44954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32947"/>
        <c:crosses val="autoZero"/>
        <c:auto val="1"/>
        <c:lblAlgn val="ctr"/>
        <c:lblOffset val="100"/>
        <c:noMultiLvlLbl val="0"/>
      </c:catAx>
      <c:valAx>
        <c:axId val="19732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54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4F4-5B72-4752-A768-878A806B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F975-4DF2-496D-B2F1-04D9C97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8C47-F008-4C3A-9958-D90FB726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9F3-7384-4862-BFBF-F3D9EF27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F1A-AE18-40B8-A486-712BF38F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4ACF-AAF5-4F84-B87C-29510E3C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E10-7F94-482B-9903-DF115684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842-F7B1-48E9-AE0E-7FCE4C4D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D3C-F503-4D65-AF99-0B9F81FF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624-0AD9-4173-AD62-35ADAE8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FA2-21F9-426B-91D8-0042358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ECB-8AEB-42AF-8534-7DAD94B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D71E4-7FBC-4BC3-A61E-312E8C1DF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