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482284"/>
        <c:axId val="1822402"/>
      </c:barChart>
      <c:catAx>
        <c:axId val="344822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22402"/>
        <c:crosses val="autoZero"/>
        <c:auto val="1"/>
        <c:lblAlgn val="ctr"/>
        <c:lblOffset val="100"/>
        <c:noMultiLvlLbl val="0"/>
      </c:catAx>
      <c:valAx>
        <c:axId val="18224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4822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F27D-ED5A-4449-95D4-0475CA12A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995F-A093-4FA8-9BE6-9AE8BAB88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E812-9892-460E-9C35-7D6AEFAD6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30B3-6BE4-42CA-A9DA-EDC3B744E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1E3F-0C1D-4CE0-A7B9-3B6441BBF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4F7A-025F-44B7-9193-39D3FF90F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1DFA-41D0-4F49-9444-D266B19A3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9425-E41B-4189-ADBA-560A0EC29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68E9-8EC7-4BB0-81C6-499F33838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D830-7B7A-4DC9-860C-DF13CE86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AC6B-2651-4A76-B364-15BD61F71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A373-B9DC-4751-BF49-3DE0530F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79DD7A-B066-45E8-956D-E564B06E04A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