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1559"/>
        <c:axId val="18389268"/>
      </c:barChart>
      <c:catAx>
        <c:axId val="72881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89268"/>
        <c:crosses val="autoZero"/>
        <c:auto val="1"/>
        <c:lblAlgn val="ctr"/>
        <c:lblOffset val="100"/>
        <c:noMultiLvlLbl val="0"/>
      </c:catAx>
      <c:valAx>
        <c:axId val="18389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1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D24-FBE7-49EB-A7A7-452831E8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70F-E85B-4268-B554-0A4A792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3AC-E991-4F32-9735-707EA9A2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BC8-43C7-43D4-B8BC-66EFC3A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C5D-9E13-4261-A2DE-2C53E3D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724-5B5B-4838-84C1-5E9A2F0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9AE-6132-4250-99C1-DE40502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D3D-AD9B-4428-AAD6-1DCF25D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D2D-8D30-48D3-AC18-9794F9D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10-3D00-4C68-90DF-4ED24C4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B62-997C-4615-812B-0D809111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83A-362A-4ECE-8C79-B11194A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95647-781F-4E3D-993B-FDFDDAE436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